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4AA-9ADA-4CBA-9E39-CFC95510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C3C-3CB2-4DC2-B19E-9BE7CF1E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95B-83E0-4390-A229-08EDD2E9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744-6909-4A2E-922E-610C6BA6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3365-B379-4EF4-92DB-B27AADDC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8A9E-31AE-4021-A258-6469A6D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2687-723E-4554-AED5-E26AC6F0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69D4-2BDD-472E-AE76-6C0B1D32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01DA-5966-4DA7-999A-FEDFAB5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4741-8E71-4098-80A5-FE36114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FCDE-8D30-4045-86B8-77D3393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674-1B1C-427C-9E3A-FBDC1FF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019D-3882-464B-BDF9-234E0E4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6E07-9D02-4AC0-BDA6-7A36C04A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26B4-E2B1-4145-8C82-0F0DC3FB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C7E6-1E7C-41D9-8239-0E88B9AC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8F0-6D03-43C3-8B87-E615B61E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78B-25BE-48D4-A6F2-4630EE8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869-4198-48EB-94D5-F750C59A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7EF-4216-4ECA-9F38-CCE2B304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630-E5B2-4DCE-9FD1-64ED792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C7C-1CA1-43FD-A577-C361FEB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B4D-B5E0-4A5D-8F1B-4312886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697-38AE-4D6E-BDEB-3A4238D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CF5-E6F9-4135-9B5C-DAF74DB04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81D0-B03D-4E9B-9E53-750F13FA0CE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processor Garbage Collection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ul R. Wil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ness and Garbag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root set which is defined as l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reachable from a live pointer is also l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else is garb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oot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o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global and module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on any activation stack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Reachable From a live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ference Counting Advant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ly distributes garbage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Time guarantees with deferred recla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 list of zeroed objects not yet proce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efficiency, can utilize all available memory with no work ro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 Counting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rvative- needs a separate GC technique to reclaim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nsive- pointer reassignment requi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Variables frequent creation/de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optimized to some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 Coun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2055960" y="2017800"/>
          <a:ext cx="6026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5960" y="2017800"/>
                    <a:ext cx="6026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 counting, unreclaim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055960" y="2017800"/>
          <a:ext cx="6026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5960" y="2017800"/>
                    <a:ext cx="6026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erred Reference Coun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r deletion of zero counted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iodically scan the stack for poi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-Sweep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ing From the root set traverse all pointers via depth/breadth first 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 everything that is not mark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Copying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as for traditional allo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block siz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ty of reference- interleaved new/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issues- work proportional to heap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pying Advant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locality pre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copy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veng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Sapce/Tospace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720800" y="2017800"/>
          <a:ext cx="6694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017800"/>
                    <a:ext cx="6694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 and C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pdate multiple pointers to the same ob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ing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/Sweep is proportional to the amount of live data. Assuming this stays roughly constant, increasing memeory will increase efficienc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 Copying 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d with a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quire pointer re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obscure pointer formats, C friend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place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rvative estim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 languages like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s can be safely passed to foreign libraries not written with Garbage Collection in mi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remental Tracing Colle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‘Muta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achability graph may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om the garbage collectors point of view the actual application is merely a coroutine ir cuncurrent process with an unfortunate tendency to modify data structures that the collector is trying to tra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ing Garb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’t survive more than one extra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Time Garbage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Tracing Coll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lace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readers single writer(mut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Copying Coll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aders Multipl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icolor Mark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olor for an object subject to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that will be retained after the current 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has been reached, but not its descen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front eff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iolation of the Coloring Invari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1994040" y="2017800"/>
          <a:ext cx="614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2017800"/>
                    <a:ext cx="614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Barr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s an attempt to read a white object and immediately colors it g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e Barr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ps attempts to write a pointer in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apshot-at-beginning write bar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only read bar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ker’s read bar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jkstra’s write Bar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ele’s write Barr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Space/ToSpace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1720800" y="2017800"/>
          <a:ext cx="6694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017800"/>
                    <a:ext cx="6694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ker’s Read Barr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s B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y Objects cannot be reverted to wh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diately Invalidates from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pointer access to fromspace causes the GC to grey the target object by copying it to tospace if necessary and updating the poi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ker’s Non Copying Sch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Time Friend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dmi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860560" y="2017800"/>
          <a:ext cx="4416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2017800"/>
                    <a:ext cx="441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ack Only Read Barr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white object in fromspace is touched it is scanned comple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lication Copying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copying from from space to to space is completed, the mutator continues to read from from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updates must be trapped to update to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simultaneous ‘flip’ where all pointers are upd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nsive for standard hardware, but cheap for function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time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Barriers add an unpredictable cost per pointer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son background scavenger, reserve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barrier may be more expensive overall, but the cost per access is well bou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ing progress allocation clock, frees per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ally allocate troublesom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r barrier more efficient on standard hard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napshot at the Begin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ches pointers which try to escape from whit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pointer is replace in a black object, the replaced pointer is first stored. All overwritten pointers are saved via a write barrier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bjects that are live at the beginning of collection remain 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Black during collection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mental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ts black to gray when an object is written to, or else grays they new pointed to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cremental Update with Write-Barrier(Dijkstra)g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ches pointers that try to hide in black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ts Black to g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overwritten pointer is not pointed to elsewhere then it is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d white. Newly allocated objects assumed unreach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a new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bjects are short l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% to 90% die within a few millio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that don’t die quickly are more likely to live a wh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lived objects are copied over and 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ive Paging in Scanning if the heap must exceed available physical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ney Breadth-first cop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04720" y="2133720"/>
            <a:ext cx="3851280" cy="186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173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2852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ENERATIONAL GARBAGE COLL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tional gc bef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3159000" y="2017800"/>
          <a:ext cx="3818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9000" y="2017800"/>
                    <a:ext cx="3818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tional gc af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3159000" y="2017800"/>
          <a:ext cx="3818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9000" y="2017800"/>
                    <a:ext cx="3818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c memory u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1428840" y="2017800"/>
          <a:ext cx="7278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017800"/>
                    <a:ext cx="7278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tions of generational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rgenerational referen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barri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to youn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ng to o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llection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cement polic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ce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ce after 2 r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er in the header fiel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ce always? Semispace in the last gene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 sp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cket briga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 compact in the oldest generation for memory effici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mb vs. 6m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3252960" y="2017800"/>
          <a:ext cx="3632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017800"/>
                    <a:ext cx="3632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170160" y="2017800"/>
          <a:ext cx="379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0160" y="2017800"/>
                    <a:ext cx="379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wo-Phase Abs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la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Garbage Collect at Al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lea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ed use of freed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Garbage Collect at Al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coded program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c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is responsible for dele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neous cop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3:44:08Z</dcterms:created>
  <dc:creator>Brian</dc:creator>
  <dc:description/>
  <dc:language>en-US</dc:language>
  <cp:lastModifiedBy>Giuseppe Attardi</cp:lastModifiedBy>
  <dcterms:modified xsi:type="dcterms:W3CDTF">2013-10-14T13:57:57Z</dcterms:modified>
  <cp:revision>92</cp:revision>
  <dc:subject/>
  <dc:title>Uniprocessor Garbage Collection Techniques</dc:title>
</cp:coreProperties>
</file>